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gif" ContentType="image/gif"/>
  <Override PartName="/ppt/media/image7.png" ContentType="image/png"/>
  <Override PartName="/ppt/media/image8.wmf" ContentType="image/x-wmf"/>
  <Override PartName="/ppt/media/image9.png" ContentType="image/png"/>
  <Override PartName="/ppt/media/image10.gif" ContentType="image/gif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F971-DAF0-4463-9F89-3C6D5CE6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7931-CFA2-4F75-BCC8-E4543BDC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F6E3-864E-460C-88F0-34E29AF7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E771-010F-4665-8842-6CAB4012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C0B6-BB39-4C8C-99A7-82A72BCE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8205-4875-4B49-AF2B-DD7BAED7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69FF-5BA7-471B-A3D5-D2EBA2EB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254D-DF60-44E5-BC20-9245C05A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810D-1337-4B83-930A-E93AE5B1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25F1-518B-4500-8333-8C43C1D4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6963-2A53-4F45-AD5F-70B7A4F7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DF24-AF73-401E-BF3D-CDE1F499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AB0A-B1C3-4765-8E3C-C2BEB176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EC9B-1A02-4E0A-AD29-9F22CEE4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C432-251E-4FF6-BC8D-9DF12FC9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BADA-2741-49D6-A712-C8767642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36A2-AF53-446B-B619-41168557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B3379-7329-486D-A3E6-7122F75D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B0D1B-FCB4-46D6-A2AF-229A42FF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B4438-7F2E-4778-B218-FC0DA9C8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2394D-9609-46CC-B174-E31B6247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79808-D0EB-4C5D-86AA-2A447FA9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B803-9779-4004-BCDC-74FE764A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D156D-35B6-4E3C-AB5E-A6236CAD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0ADD6-1D4E-44A1-9E56-8875E53E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D2A17-9B4F-40A6-9BD0-A4FCE4E4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B4FA8-183F-40F0-94F5-12AAC067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AE1B6-6C99-458F-828E-9D243E09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A5931-76FB-401C-B217-C396A2FA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2894A-E492-4FB5-9F65-DD103189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B4129-43F9-4219-BB13-155E5830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AAE33-47F7-4F79-9B18-5D916374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9A3EE-FDB1-4DF1-BD2F-41587490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4DCD-8317-44A2-A5E6-7994EE5A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7E074-D7DF-45E3-9B49-7234D86C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9A8F3-48B5-46FE-8C9F-56592F4F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51420-2223-4CD5-B448-FC3F62F3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D4B59-2C75-4BA8-85CD-0EC66783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D76E9-FC4D-4795-91C2-10DFD488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20250-3DF3-40E3-A125-5251C7BE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D45E6-59D3-4B1E-9C8A-6E581FDB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12F78-7A10-409A-A87A-335D299E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E0F2F-8A13-4C39-8DF4-78662910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EAB20-F943-448E-9D13-796AF6AC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0E87-7BFB-412F-AE8F-53C9D291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3C8CA-1142-43DD-AA94-BA3660CF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94B8F-70AE-47C6-A8C9-E23A89BB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3BB1E-C1C7-4EB2-9C07-EB9D941B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86C4E-19A0-4675-8CFB-B1615FE2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DCA3B-120D-45C9-AE12-83BD5404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F9CA8-5563-4974-94F8-3DA0607C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D7F58-7F5F-44CF-8BD0-61C3CCA6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6B774-63FA-4183-B663-F2B9E102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9CF05-16F0-4D99-BC21-7620CD0D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3D8E4-1C79-4633-9F6A-E1F56B33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C166-A401-4BC3-B735-F01451BC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92C43-4C4F-4B33-A489-B7CB5453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7A80E-85AF-4BB4-8F80-4D02E80A9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723FC-F808-4747-9000-AE0426C3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BEADF-569E-47EF-83DA-5AF8B912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7B27D-CE6A-4D58-8CA5-E2FFD53A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538D4-51FE-47C5-9C8C-09AFED92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8CB7E-80BB-4104-8D30-BCD1B62E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68005-28AD-40BE-989E-938E9A34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286FA-1991-40B6-82F6-735EDBD6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92188-AC60-4356-ABAC-D45787BD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168E-D526-45A6-8230-8ED3B8BA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A21DF-5618-430E-BA35-9447599B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FCDE0-D129-4F7F-8449-F0F20512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A237F-3396-45DA-BB34-A22088A1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4CBA-4472-4FFC-97EF-FDBC01D3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E5FD-D05A-4C06-88B8-3A82C909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722E-D33D-4DF0-834B-450F46C3055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D078-6104-411B-BD4E-537D05011DB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7AB2-F640-4C7B-A6BC-45C93C0D604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56DD-05D2-4A64-9A43-A94F279338E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FEFB-6BBA-4220-B28F-CC976E4BAA9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EF9D-DEF3-443B-9E12-F011DE269E8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" Target="slide24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7.xml"/><Relationship Id="rId9" Type="http://schemas.openxmlformats.org/officeDocument/2006/relationships/slide" Target="slide28.xml"/><Relationship Id="rId10" Type="http://schemas.openxmlformats.org/officeDocument/2006/relationships/slide" Target="slide29.xml"/><Relationship Id="rId11" Type="http://schemas.openxmlformats.org/officeDocument/2006/relationships/slide" Target="slide30.xml"/><Relationship Id="rId12" Type="http://schemas.openxmlformats.org/officeDocument/2006/relationships/slide" Target="slide31.xml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Рисунок 4" descr="4ca1f4b728bc"/>
          <p:cNvPicPr/>
          <p:nvPr/>
        </p:nvPicPr>
        <p:blipFill>
          <a:blip r:embed="rId1"/>
          <a:stretch/>
        </p:blipFill>
        <p:spPr>
          <a:xfrm>
            <a:off x="3214800" y="3643200"/>
            <a:ext cx="2928960" cy="25005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2"/>
          <p:cNvSpPr/>
          <p:nvPr/>
        </p:nvSpPr>
        <p:spPr>
          <a:xfrm>
            <a:off x="500040" y="1000080"/>
            <a:ext cx="7858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ая викторина по русскому язы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оя иг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СВОЯ_ИГРА_-_Без_названия_(0-34)(www.muzico.ru).mp3" descr=""/>
          <p:cNvPicPr/>
          <p:nvPr/>
        </p:nvPicPr>
        <p:blipFill>
          <a:blip r:embed="rId2"/>
          <a:stretch/>
        </p:blipFill>
        <p:spPr>
          <a:xfrm>
            <a:off x="1214280" y="5143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9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4822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4"/>
          <p:cNvSpPr/>
          <p:nvPr/>
        </p:nvSpPr>
        <p:spPr>
          <a:xfrm>
            <a:off x="714240" y="428760"/>
            <a:ext cx="77868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опрос                                  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5">
            <a:hlinkClick r:id="rId1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10800"/>
                </a:moveTo>
                <a:lnTo>
                  <a:pt x="19600" y="3794"/>
                </a:lnTo>
                <a:lnTo>
                  <a:pt x="19600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642960" y="1940400"/>
            <a:ext cx="7929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ЛИК или ПЯТАЧ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из них гадал на ромашке: «Любит— не любит, плюнет, поцелует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мени-отгадке все согласные звуки глух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611280" y="692280"/>
            <a:ext cx="7705800" cy="4535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ач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4"/>
          <p:cNvSpPr/>
          <p:nvPr/>
        </p:nvSpPr>
        <p:spPr>
          <a:xfrm>
            <a:off x="642960" y="571680"/>
            <a:ext cx="77868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опрос                                  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5">
            <a:hlinkClick r:id="rId1" action="ppaction://hlinksldjump"/>
          </p:cNvPr>
          <p:cNvSpPr/>
          <p:nvPr/>
        </p:nvSpPr>
        <p:spPr>
          <a:xfrm>
            <a:off x="8715240" y="6429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1000080" y="2571840"/>
            <a:ext cx="70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-ть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4"/>
          <p:cNvSpPr/>
          <p:nvPr/>
        </p:nvSpPr>
        <p:spPr>
          <a:xfrm>
            <a:off x="571680" y="642960"/>
            <a:ext cx="7705440" cy="4535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ье – све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еученье – ть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4"/>
          <p:cNvSpPr/>
          <p:nvPr/>
        </p:nvSpPr>
        <p:spPr>
          <a:xfrm>
            <a:off x="642960" y="404640"/>
            <a:ext cx="785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опрос                                  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">
            <a:hlinkClick r:id="rId1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10800"/>
                </a:moveTo>
                <a:lnTo>
                  <a:pt x="19600" y="3794"/>
                </a:lnTo>
                <a:lnTo>
                  <a:pt x="19600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3"/>
          <p:cNvSpPr/>
          <p:nvPr/>
        </p:nvSpPr>
        <p:spPr>
          <a:xfrm>
            <a:off x="1285920" y="28576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ло-меш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714240" y="642960"/>
            <a:ext cx="7705800" cy="4535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ла в мешке не утаиш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4"/>
          <p:cNvSpPr/>
          <p:nvPr/>
        </p:nvSpPr>
        <p:spPr>
          <a:xfrm>
            <a:off x="642960" y="571680"/>
            <a:ext cx="77868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опрос                                  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5">
            <a:hlinkClick r:id="rId1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10800"/>
                </a:moveTo>
                <a:lnTo>
                  <a:pt x="19600" y="3794"/>
                </a:lnTo>
                <a:lnTo>
                  <a:pt x="19600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3"/>
          <p:cNvSpPr/>
          <p:nvPr/>
        </p:nvSpPr>
        <p:spPr>
          <a:xfrm>
            <a:off x="1500120" y="2643120"/>
            <a:ext cx="614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-д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4"/>
          <p:cNvSpPr/>
          <p:nvPr/>
        </p:nvSpPr>
        <p:spPr>
          <a:xfrm>
            <a:off x="714240" y="642960"/>
            <a:ext cx="7705800" cy="4535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дальше в лес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 больше др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4"/>
          <p:cNvSpPr/>
          <p:nvPr/>
        </p:nvSpPr>
        <p:spPr>
          <a:xfrm>
            <a:off x="571680" y="500040"/>
            <a:ext cx="78580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опрос                                  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5">
            <a:hlinkClick r:id="rId1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10800"/>
                </a:moveTo>
                <a:lnTo>
                  <a:pt x="19600" y="3794"/>
                </a:lnTo>
                <a:lnTo>
                  <a:pt x="19600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1571760" y="2714760"/>
            <a:ext cx="607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-бездел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714240" y="642960"/>
            <a:ext cx="7705800" cy="4535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ое дел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большого бездел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5"/>
          <p:cNvSpPr/>
          <p:nvPr/>
        </p:nvSpPr>
        <p:spPr>
          <a:xfrm>
            <a:off x="571680" y="500040"/>
            <a:ext cx="78912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опрос                                  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">
            <a:hlinkClick r:id="rId1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10800"/>
                </a:moveTo>
                <a:lnTo>
                  <a:pt x="19600" y="3794"/>
                </a:lnTo>
                <a:lnTo>
                  <a:pt x="19600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"/>
          <p:cNvSpPr/>
          <p:nvPr/>
        </p:nvSpPr>
        <p:spPr>
          <a:xfrm>
            <a:off x="1357200" y="2500200"/>
            <a:ext cx="635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+ согласный П=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+ знак препинания=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4"/>
          <p:cNvSpPr/>
          <p:nvPr/>
        </p:nvSpPr>
        <p:spPr>
          <a:xfrm>
            <a:off x="714240" y="642960"/>
            <a:ext cx="7705800" cy="4535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4"/>
          <p:cNvSpPr/>
          <p:nvPr/>
        </p:nvSpPr>
        <p:spPr>
          <a:xfrm>
            <a:off x="684360" y="476280"/>
            <a:ext cx="77454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прос                                  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5">
            <a:hlinkClick r:id="rId1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10800"/>
                </a:moveTo>
                <a:lnTo>
                  <a:pt x="19600" y="3794"/>
                </a:lnTo>
                <a:lnTo>
                  <a:pt x="19600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3"/>
          <p:cNvSpPr/>
          <p:nvPr/>
        </p:nvSpPr>
        <p:spPr>
          <a:xfrm>
            <a:off x="1643040" y="2357280"/>
            <a:ext cx="571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бан-ан+лук=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+ёлка-ка=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4"/>
          <p:cNvSpPr/>
          <p:nvPr/>
        </p:nvSpPr>
        <p:spPr>
          <a:xfrm>
            <a:off x="714240" y="642960"/>
            <a:ext cx="7705800" cy="4535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бл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ё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4"/>
          <p:cNvSpPr/>
          <p:nvPr/>
        </p:nvSpPr>
        <p:spPr>
          <a:xfrm>
            <a:off x="571680" y="428760"/>
            <a:ext cx="778644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прос                                  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5">
            <a:hlinkClick r:id="rId1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10800"/>
                </a:moveTo>
                <a:lnTo>
                  <a:pt x="19600" y="3794"/>
                </a:lnTo>
                <a:lnTo>
                  <a:pt x="19600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3"/>
          <p:cNvSpPr/>
          <p:nvPr/>
        </p:nvSpPr>
        <p:spPr>
          <a:xfrm>
            <a:off x="1571760" y="2286000"/>
            <a:ext cx="578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ь-ь+идол-л+р=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+рак-ак+тира=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4"/>
          <p:cNvSpPr/>
          <p:nvPr/>
        </p:nvSpPr>
        <p:spPr>
          <a:xfrm>
            <a:off x="714240" y="642960"/>
            <a:ext cx="7705800" cy="4535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д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рт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4"/>
          <p:cNvSpPr/>
          <p:nvPr/>
        </p:nvSpPr>
        <p:spPr>
          <a:xfrm>
            <a:off x="642960" y="571680"/>
            <a:ext cx="785808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прос                                  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5">
            <a:hlinkClick r:id="rId1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10800"/>
                </a:moveTo>
                <a:lnTo>
                  <a:pt x="19600" y="3794"/>
                </a:lnTo>
                <a:lnTo>
                  <a:pt x="19600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3"/>
          <p:cNvSpPr/>
          <p:nvPr/>
        </p:nvSpPr>
        <p:spPr>
          <a:xfrm>
            <a:off x="1571760" y="2286000"/>
            <a:ext cx="6215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+ горное село=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+н+ик+а=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714240" y="642960"/>
            <a:ext cx="7705800" cy="4535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у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428760" y="1785960"/>
          <a:ext cx="8213760" cy="3327480"/>
        </p:xfrm>
        <a:graphic>
          <a:graphicData uri="http://schemas.openxmlformats.org/drawingml/2006/table">
            <a:tbl>
              <a:tblPr/>
              <a:tblGrid>
                <a:gridCol w="4039920"/>
                <a:gridCol w="1144800"/>
                <a:gridCol w="1144440"/>
                <a:gridCol w="1011240"/>
                <a:gridCol w="873360"/>
              </a:tblGrid>
              <a:tr h="99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Хитрые вопро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b9f25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Шара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b9f25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12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Фразеологиз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b9f25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TextBox 2"/>
          <p:cNvSpPr/>
          <p:nvPr/>
        </p:nvSpPr>
        <p:spPr>
          <a:xfrm>
            <a:off x="2000160" y="642960"/>
            <a:ext cx="521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раун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Управляющая кнопка: назад 3"/>
          <p:cNvSpPr/>
          <p:nvPr/>
        </p:nvSpPr>
        <p:spPr>
          <a:xfrm>
            <a:off x="8572680" y="635796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10800"/>
                </a:moveTo>
                <a:lnTo>
                  <a:pt x="19345" y="3794"/>
                </a:lnTo>
                <a:lnTo>
                  <a:pt x="19345" y="17806"/>
                </a:lnTo>
                <a:close/>
              </a:path>
            </a:pathLst>
          </a:custGeom>
          <a:solidFill>
            <a:srgbClr val="999999"/>
          </a:solidFill>
          <a:ln w="42480">
            <a:solidFill>
              <a:srgbClr val="c4e1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179280" y="1484280"/>
          <a:ext cx="8713800" cy="4256280"/>
        </p:xfrm>
        <a:graphic>
          <a:graphicData uri="http://schemas.openxmlformats.org/drawingml/2006/table">
            <a:tbl>
              <a:tblPr/>
              <a:tblGrid>
                <a:gridCol w="3321000"/>
                <a:gridCol w="1428840"/>
                <a:gridCol w="1285920"/>
                <a:gridCol w="1236600"/>
                <a:gridCol w="1441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Почемучкины вопро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b9f25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119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Фонетические загад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b9f25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Пословиц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b9f25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107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Грамматическая арифме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b9f25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TextBox 2"/>
          <p:cNvSpPr/>
          <p:nvPr/>
        </p:nvSpPr>
        <p:spPr>
          <a:xfrm>
            <a:off x="2000160" y="500040"/>
            <a:ext cx="52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 рау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Управляющая кнопка: назад 3">
            <a:hlinkClick r:id="rId17" action="ppaction://hlinksldjump"/>
          </p:cNvPr>
          <p:cNvSpPr/>
          <p:nvPr/>
        </p:nvSpPr>
        <p:spPr>
          <a:xfrm>
            <a:off x="8643960" y="63579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4e1f2"/>
          </a:solidFill>
          <a:ln w="42480">
            <a:solidFill>
              <a:srgbClr val="c4e1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1"/>
          <p:cNvSpPr/>
          <p:nvPr/>
        </p:nvSpPr>
        <p:spPr>
          <a:xfrm>
            <a:off x="642960" y="50004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опрос                              2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2"/>
          <p:cNvSpPr/>
          <p:nvPr/>
        </p:nvSpPr>
        <p:spPr>
          <a:xfrm>
            <a:off x="1236960" y="2714760"/>
            <a:ext cx="694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соль не кладут в суп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4"/>
          <p:cNvSpPr/>
          <p:nvPr/>
        </p:nvSpPr>
        <p:spPr>
          <a:xfrm>
            <a:off x="755640" y="692280"/>
            <a:ext cx="7705800" cy="4535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Управляющая кнопка: назад 4"/>
          <p:cNvSpPr/>
          <p:nvPr/>
        </p:nvSpPr>
        <p:spPr>
          <a:xfrm>
            <a:off x="8643960" y="63579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4e1f2"/>
          </a:solidFill>
          <a:ln w="42480">
            <a:solidFill>
              <a:srgbClr val="c4e1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642960" y="642960"/>
            <a:ext cx="785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опрос                               3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2"/>
          <p:cNvSpPr/>
          <p:nvPr/>
        </p:nvSpPr>
        <p:spPr>
          <a:xfrm>
            <a:off x="1019880" y="2643120"/>
            <a:ext cx="78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ого крана не льется вода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4"/>
          <p:cNvSpPr/>
          <p:nvPr/>
        </p:nvSpPr>
        <p:spPr>
          <a:xfrm>
            <a:off x="785880" y="642960"/>
            <a:ext cx="7705800" cy="4535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ъёмного кр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Управляющая кнопка: назад 4"/>
          <p:cNvSpPr/>
          <p:nvPr/>
        </p:nvSpPr>
        <p:spPr>
          <a:xfrm>
            <a:off x="8643960" y="63579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4e1f2"/>
          </a:solidFill>
          <a:ln w="42480">
            <a:solidFill>
              <a:srgbClr val="c4e1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1680" y="2857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лук не кладут в суп?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Box 3"/>
          <p:cNvSpPr/>
          <p:nvPr/>
        </p:nvSpPr>
        <p:spPr>
          <a:xfrm>
            <a:off x="714240" y="500040"/>
            <a:ext cx="771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опрос                              4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4"/>
          <p:cNvSpPr/>
          <p:nvPr/>
        </p:nvSpPr>
        <p:spPr>
          <a:xfrm>
            <a:off x="642960" y="714240"/>
            <a:ext cx="7705800" cy="4535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ж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Управляющая кнопка: назад 5"/>
          <p:cNvSpPr/>
          <p:nvPr/>
        </p:nvSpPr>
        <p:spPr>
          <a:xfrm>
            <a:off x="8643960" y="63579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4e1f2"/>
          </a:solidFill>
          <a:ln w="42480">
            <a:solidFill>
              <a:srgbClr val="c4e1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0040" y="2857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кому мостику нельзя перейти речку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опрос                                500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Rectangle 14"/>
          <p:cNvSpPr/>
          <p:nvPr/>
        </p:nvSpPr>
        <p:spPr>
          <a:xfrm>
            <a:off x="642960" y="714240"/>
            <a:ext cx="7705800" cy="4535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питанскому на кораб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Управляющая кнопка: назад 4"/>
          <p:cNvSpPr/>
          <p:nvPr/>
        </p:nvSpPr>
        <p:spPr>
          <a:xfrm>
            <a:off x="8643960" y="63579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4e1f2"/>
          </a:solidFill>
          <a:ln w="42480">
            <a:solidFill>
              <a:srgbClr val="c4e1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опрос                                200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Заголовок 1"/>
          <p:cNvSpPr/>
          <p:nvPr/>
        </p:nvSpPr>
        <p:spPr>
          <a:xfrm>
            <a:off x="571680" y="2714760"/>
            <a:ext cx="811188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звуком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 невкусна,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Но в пище каждому нужна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регись меня, не то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Я съем и платье, и пальт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4"/>
          <p:cNvSpPr/>
          <p:nvPr/>
        </p:nvSpPr>
        <p:spPr>
          <a:xfrm>
            <a:off x="642960" y="714240"/>
            <a:ext cx="7705800" cy="4535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ь-мо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Управляющая кнопка: назад 7"/>
          <p:cNvSpPr/>
          <p:nvPr/>
        </p:nvSpPr>
        <p:spPr>
          <a:xfrm>
            <a:off x="8501040" y="63579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6878" y="10800"/>
                </a:moveTo>
                <a:lnTo>
                  <a:pt x="20891" y="3794"/>
                </a:lnTo>
                <a:lnTo>
                  <a:pt x="20891" y="17806"/>
                </a:lnTo>
                <a:close/>
              </a:path>
            </a:pathLst>
          </a:custGeom>
          <a:solidFill>
            <a:srgbClr val="c4e1f2"/>
          </a:solidFill>
          <a:ln w="42480">
            <a:solidFill>
              <a:srgbClr val="c4e1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4000"/>
          </a:bodyPr>
          <a:p>
            <a:pPr marL="248760" indent="-248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опрос                                300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у букву в алфавите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ного раз вы повторите,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И должно так получиться,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Чтоб в итоге вышла птица. </a:t>
            </a: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Rectangle 14"/>
          <p:cNvSpPr/>
          <p:nvPr/>
        </p:nvSpPr>
        <p:spPr>
          <a:xfrm>
            <a:off x="714240" y="785880"/>
            <a:ext cx="7705800" cy="4535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Управляющая кнопка: назад 5"/>
          <p:cNvSpPr/>
          <p:nvPr/>
        </p:nvSpPr>
        <p:spPr>
          <a:xfrm>
            <a:off x="864396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10800"/>
                </a:moveTo>
                <a:lnTo>
                  <a:pt x="19600" y="3794"/>
                </a:lnTo>
                <a:lnTo>
                  <a:pt x="19600" y="17806"/>
                </a:lnTo>
                <a:close/>
              </a:path>
            </a:pathLst>
          </a:custGeom>
          <a:solidFill>
            <a:srgbClr val="c4e1f2"/>
          </a:solidFill>
          <a:ln w="42480">
            <a:solidFill>
              <a:srgbClr val="c4e1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0040" y="3928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28760" y="4996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4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ru-RU" sz="4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Управляющая кнопка: назад 4"/>
          <p:cNvSpPr/>
          <p:nvPr/>
        </p:nvSpPr>
        <p:spPr>
          <a:xfrm>
            <a:off x="8572680" y="635796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10800"/>
                </a:moveTo>
                <a:lnTo>
                  <a:pt x="19345" y="3794"/>
                </a:lnTo>
                <a:lnTo>
                  <a:pt x="19345" y="17806"/>
                </a:lnTo>
                <a:close/>
              </a:path>
            </a:pathLst>
          </a:custGeom>
          <a:solidFill>
            <a:srgbClr val="c4e1f2"/>
          </a:solidFill>
          <a:ln w="42480">
            <a:solidFill>
              <a:srgbClr val="c4e1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4" descr="кот в мешке"/>
          <p:cNvPicPr/>
          <p:nvPr/>
        </p:nvPicPr>
        <p:blipFill>
          <a:blip r:embed="rId1"/>
          <a:stretch/>
        </p:blipFill>
        <p:spPr>
          <a:xfrm>
            <a:off x="1332000" y="981000"/>
            <a:ext cx="4305240" cy="468000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5"/>
          <p:cNvSpPr/>
          <p:nvPr/>
        </p:nvSpPr>
        <p:spPr>
          <a:xfrm>
            <a:off x="6516720" y="2060640"/>
            <a:ext cx="1728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3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опрос                                500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ь меня напишешь через букву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Лягу я под дверью дома твоего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оль меня напишешь через букву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На тарелку лягу в праздничные дн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Управляющая кнопка: назад 4"/>
          <p:cNvSpPr/>
          <p:nvPr/>
        </p:nvSpPr>
        <p:spPr>
          <a:xfrm>
            <a:off x="8715240" y="6429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4e1f2"/>
          </a:solidFill>
          <a:ln w="42480">
            <a:solidFill>
              <a:srgbClr val="c4e1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642960" y="642960"/>
            <a:ext cx="7705800" cy="4535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г-пир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ас по чайной ложке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00040" y="499680"/>
            <a:ext cx="8143920" cy="4218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опрос                                200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Rectangle 14"/>
          <p:cNvSpPr/>
          <p:nvPr/>
        </p:nvSpPr>
        <p:spPr>
          <a:xfrm>
            <a:off x="714240" y="571680"/>
            <a:ext cx="7705800" cy="4535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лен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Управляющая кнопка: назад 4"/>
          <p:cNvSpPr/>
          <p:nvPr/>
        </p:nvSpPr>
        <p:spPr>
          <a:xfrm>
            <a:off x="864396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10800"/>
                </a:moveTo>
                <a:lnTo>
                  <a:pt x="19600" y="3794"/>
                </a:lnTo>
                <a:lnTo>
                  <a:pt x="19600" y="17806"/>
                </a:lnTo>
                <a:close/>
              </a:path>
            </a:pathLst>
          </a:custGeom>
          <a:solidFill>
            <a:srgbClr val="c4e1f2"/>
          </a:solidFill>
          <a:ln w="42480">
            <a:solidFill>
              <a:srgbClr val="c4e1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57120" y="31428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 да кости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28760" y="499680"/>
            <a:ext cx="8286480" cy="4218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опрос                               300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Rectangle 14"/>
          <p:cNvSpPr/>
          <p:nvPr/>
        </p:nvSpPr>
        <p:spPr>
          <a:xfrm>
            <a:off x="714240" y="571680"/>
            <a:ext cx="7705800" cy="4535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Управляющая кнопка: назад 4"/>
          <p:cNvSpPr/>
          <p:nvPr/>
        </p:nvSpPr>
        <p:spPr>
          <a:xfrm>
            <a:off x="8643960" y="63579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4e1f2"/>
          </a:solidFill>
          <a:ln w="42480">
            <a:solidFill>
              <a:srgbClr val="c4e1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428760" y="428760"/>
            <a:ext cx="831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 </a:t>
            </a:r>
            <a:r>
              <a:rPr b="1" lang="en-US" sz="44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опрос                                   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>
            <a:hlinkClick r:id="rId1" action="ppaction://hlinksldjump"/>
          </p:cNvPr>
          <p:cNvSpPr/>
          <p:nvPr/>
        </p:nvSpPr>
        <p:spPr>
          <a:xfrm>
            <a:off x="8715240" y="6429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4"/>
          <p:cNvSpPr/>
          <p:nvPr/>
        </p:nvSpPr>
        <p:spPr>
          <a:xfrm>
            <a:off x="1149120" y="2857680"/>
            <a:ext cx="755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букв в русском алфавит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4"/>
          <p:cNvSpPr/>
          <p:nvPr/>
        </p:nvSpPr>
        <p:spPr>
          <a:xfrm>
            <a:off x="826920" y="620640"/>
            <a:ext cx="7705800" cy="4535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0040" y="2857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вать носом 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500040" y="499680"/>
            <a:ext cx="8143920" cy="4218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опрос                                400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Rectangle 14"/>
          <p:cNvSpPr/>
          <p:nvPr/>
        </p:nvSpPr>
        <p:spPr>
          <a:xfrm>
            <a:off x="714240" y="571680"/>
            <a:ext cx="7705800" cy="4535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м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Управляющая кнопка: назад 4"/>
          <p:cNvSpPr/>
          <p:nvPr/>
        </p:nvSpPr>
        <p:spPr>
          <a:xfrm>
            <a:off x="8572680" y="635796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10800"/>
                </a:moveTo>
                <a:lnTo>
                  <a:pt x="19345" y="3794"/>
                </a:lnTo>
                <a:lnTo>
                  <a:pt x="19345" y="17806"/>
                </a:lnTo>
                <a:close/>
              </a:path>
            </a:pathLst>
          </a:custGeom>
          <a:solidFill>
            <a:srgbClr val="c4e1f2"/>
          </a:solidFill>
          <a:ln w="42480">
            <a:solidFill>
              <a:srgbClr val="c4e1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7120" y="2642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чья душа 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99680" y="499680"/>
            <a:ext cx="8255160" cy="4259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опрос                               500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Rectangle 14"/>
          <p:cNvSpPr/>
          <p:nvPr/>
        </p:nvSpPr>
        <p:spPr>
          <a:xfrm>
            <a:off x="611280" y="620640"/>
            <a:ext cx="7705800" cy="4535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сливый чело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Управляющая кнопка: назад 4"/>
          <p:cNvSpPr/>
          <p:nvPr/>
        </p:nvSpPr>
        <p:spPr>
          <a:xfrm>
            <a:off x="8572680" y="635796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10800"/>
                </a:moveTo>
                <a:lnTo>
                  <a:pt x="19345" y="3794"/>
                </a:lnTo>
                <a:lnTo>
                  <a:pt x="19345" y="17806"/>
                </a:lnTo>
                <a:close/>
              </a:path>
            </a:pathLst>
          </a:custGeom>
          <a:solidFill>
            <a:srgbClr val="c4e1f2"/>
          </a:solidFill>
          <a:ln w="42480">
            <a:solidFill>
              <a:srgbClr val="c4e1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л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2" descr="j0088510"/>
          <p:cNvPicPr/>
          <p:nvPr/>
        </p:nvPicPr>
        <p:blipFill>
          <a:blip r:embed="rId1"/>
          <a:stretch/>
        </p:blipFill>
        <p:spPr>
          <a:xfrm>
            <a:off x="4429080" y="1071720"/>
            <a:ext cx="4017960" cy="4143240"/>
          </a:xfrm>
          <a:prstGeom prst="rect">
            <a:avLst/>
          </a:prstGeom>
          <a:ln w="0">
            <a:noFill/>
          </a:ln>
        </p:spPr>
      </p:pic>
      <p:pic>
        <p:nvPicPr>
          <p:cNvPr id="391" name="СВОЯ_ИГРА_-_Без_названия_(0-34)(www.muzico.ru).mp3" descr=""/>
          <p:cNvPicPr/>
          <p:nvPr/>
        </p:nvPicPr>
        <p:blipFill>
          <a:blip r:embed="rId2"/>
          <a:stretch/>
        </p:blipFill>
        <p:spPr>
          <a:xfrm>
            <a:off x="1357200" y="5214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2" dur="34822" fill="hold"/>
                                        <p:tgtEl>
                                          <p:spTgt spid="3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8360" y="501336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13840" y="529920"/>
            <a:ext cx="864396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6000"/>
          </a:bodyPr>
          <a:p>
            <a:pPr marL="227520" indent="-2275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к Хоттабыч и Буратино занялись изучением русского языка. Взял Хоттабыч согласную букву и прибавил к ней часть лица – у него получилось животное. Прибавил к этой же букве полевое растение – и перед ним лиственное дерево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ыдержал тогда Буратино: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Дай-ка и я попробую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авил он к этой букве морское животное – оно превратилось в насекомое. Удивился Буратино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тарик Хоттабыч говорит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а волшебная буква обладает ещё свойством делать кожаный пояс камнем, а речных рыб – столярным инструменто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эту волшебную букву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Rectangle 14"/>
          <p:cNvSpPr/>
          <p:nvPr/>
        </p:nvSpPr>
        <p:spPr>
          <a:xfrm>
            <a:off x="755640" y="981000"/>
            <a:ext cx="7786800" cy="4643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а 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-рот, к-лён, к-омар, к-ремень, к-ле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96" name="Рисунок 5" descr="0_195db_6e22cfec_XS.gif"/>
          <p:cNvPicPr/>
          <p:nvPr/>
        </p:nvPicPr>
        <p:blipFill>
          <a:blip r:embed="rId1"/>
          <a:stretch/>
        </p:blipFill>
        <p:spPr>
          <a:xfrm>
            <a:off x="3143160" y="2928960"/>
            <a:ext cx="2853000" cy="285264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оугольник 4"/>
          <p:cNvSpPr/>
          <p:nvPr/>
        </p:nvSpPr>
        <p:spPr>
          <a:xfrm>
            <a:off x="857160" y="857160"/>
            <a:ext cx="742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Игра закончен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здравляем победителе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Рисунок 5" descr="http://krassota.com/i/fon/fon4.gif"/>
          <p:cNvPicPr/>
          <p:nvPr/>
        </p:nvPicPr>
        <p:blipFill>
          <a:blip r:embed="rId2"/>
          <a:stretch/>
        </p:blipFill>
        <p:spPr>
          <a:xfrm>
            <a:off x="1000080" y="37148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6" descr="http://krassota.com/i/fon/fon4.gif"/>
          <p:cNvPicPr/>
          <p:nvPr/>
        </p:nvPicPr>
        <p:blipFill>
          <a:blip r:embed="rId3"/>
          <a:stretch/>
        </p:blipFill>
        <p:spPr>
          <a:xfrm>
            <a:off x="7000920" y="3571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7" descr="http://krassota.com/i/fon/fon4.gif"/>
          <p:cNvPicPr/>
          <p:nvPr/>
        </p:nvPicPr>
        <p:blipFill>
          <a:blip r:embed="rId4"/>
          <a:stretch/>
        </p:blipFill>
        <p:spPr>
          <a:xfrm>
            <a:off x="7072200" y="5716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8" descr="http://krassota.com/i/fon/fon4.gif"/>
          <p:cNvPicPr/>
          <p:nvPr/>
        </p:nvPicPr>
        <p:blipFill>
          <a:blip r:embed="rId5"/>
          <a:stretch/>
        </p:blipFill>
        <p:spPr>
          <a:xfrm>
            <a:off x="928800" y="3571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9" descr="http://krassota.com/i/fon/fon4.gif"/>
          <p:cNvPicPr/>
          <p:nvPr/>
        </p:nvPicPr>
        <p:blipFill>
          <a:blip r:embed="rId6"/>
          <a:stretch/>
        </p:blipFill>
        <p:spPr>
          <a:xfrm>
            <a:off x="1857240" y="2357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10" descr="http://krassota.com/i/fon/fon4.gif"/>
          <p:cNvPicPr/>
          <p:nvPr/>
        </p:nvPicPr>
        <p:blipFill>
          <a:blip r:embed="rId7"/>
          <a:stretch/>
        </p:blipFill>
        <p:spPr>
          <a:xfrm>
            <a:off x="5715000" y="23572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4"/>
          <p:cNvSpPr/>
          <p:nvPr/>
        </p:nvSpPr>
        <p:spPr>
          <a:xfrm>
            <a:off x="684360" y="549360"/>
            <a:ext cx="8030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опрос  </a:t>
            </a:r>
            <a:r>
              <a:rPr b="1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>
            <a:hlinkClick r:id="rId1" action="ppaction://hlinksldjump"/>
          </p:cNvPr>
          <p:cNvSpPr/>
          <p:nvPr/>
        </p:nvSpPr>
        <p:spPr>
          <a:xfrm>
            <a:off x="8715240" y="6429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"/>
          <p:cNvSpPr/>
          <p:nvPr/>
        </p:nvSpPr>
        <p:spPr>
          <a:xfrm>
            <a:off x="1000080" y="2428920"/>
            <a:ext cx="74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е члены предложения</a:t>
            </a:r>
            <a:r>
              <a:rPr b="0" lang="en-US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4"/>
          <p:cNvSpPr/>
          <p:nvPr/>
        </p:nvSpPr>
        <p:spPr>
          <a:xfrm>
            <a:off x="755640" y="765000"/>
            <a:ext cx="7705800" cy="4535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ащее и сказуем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4"/>
          <p:cNvSpPr/>
          <p:nvPr/>
        </p:nvSpPr>
        <p:spPr>
          <a:xfrm>
            <a:off x="642960" y="500040"/>
            <a:ext cx="792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опрос                                   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">
            <a:hlinkClick r:id="rId1" action="ppaction://hlinksldjump"/>
          </p:cNvPr>
          <p:cNvSpPr/>
          <p:nvPr/>
        </p:nvSpPr>
        <p:spPr>
          <a:xfrm>
            <a:off x="8715240" y="6429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3"/>
          <p:cNvSpPr/>
          <p:nvPr/>
        </p:nvSpPr>
        <p:spPr>
          <a:xfrm>
            <a:off x="1285920" y="2571840"/>
            <a:ext cx="67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гласных звуков в нашем язык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755640" y="692280"/>
            <a:ext cx="7705800" cy="4535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571680" y="428760"/>
            <a:ext cx="792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опрос                                   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5">
            <a:hlinkClick r:id="rId1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10800"/>
                </a:moveTo>
                <a:lnTo>
                  <a:pt x="19600" y="3794"/>
                </a:lnTo>
                <a:lnTo>
                  <a:pt x="19600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4"/>
          <p:cNvSpPr/>
          <p:nvPr/>
        </p:nvSpPr>
        <p:spPr>
          <a:xfrm>
            <a:off x="928800" y="264312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Рисунок 4" descr="1801dd79927d411fe8c6ff7f5e8e6b3a.gif"/>
          <p:cNvPicPr/>
          <p:nvPr/>
        </p:nvPicPr>
        <p:blipFill>
          <a:blip r:embed="rId2"/>
          <a:stretch/>
        </p:blipFill>
        <p:spPr>
          <a:xfrm>
            <a:off x="4000680" y="3643200"/>
            <a:ext cx="1881000" cy="216396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10"/>
          <p:cNvSpPr/>
          <p:nvPr/>
        </p:nvSpPr>
        <p:spPr>
          <a:xfrm>
            <a:off x="857160" y="2000160"/>
            <a:ext cx="764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лушайте песню Радионяни. Сформулируйте правило, о котором идёт речь в песне, приведите примеры на данное правил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642960" y="571680"/>
            <a:ext cx="7991280" cy="5214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верки непроизносимого согласного в кор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подобрать родственное слов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этот согласный слышался отчётли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15_Neproizn._soglasnye_(mp3cut.ru).mp3" descr=""/>
          <p:cNvPicPr/>
          <p:nvPr/>
        </p:nvPicPr>
        <p:blipFill>
          <a:blip r:embed="rId3"/>
          <a:stretch/>
        </p:blipFill>
        <p:spPr>
          <a:xfrm>
            <a:off x="4714920" y="4643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62722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4"/>
          <p:cNvSpPr/>
          <p:nvPr/>
        </p:nvSpPr>
        <p:spPr>
          <a:xfrm>
            <a:off x="571680" y="404640"/>
            <a:ext cx="8143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опрос                                    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5">
            <a:hlinkClick r:id="rId1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10800"/>
                </a:moveTo>
                <a:lnTo>
                  <a:pt x="19600" y="3794"/>
                </a:lnTo>
                <a:lnTo>
                  <a:pt x="19600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714240" y="2152080"/>
            <a:ext cx="77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ЛИ или БАЛАЛАЙК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музыкальный инструмент люди придумали раньш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ове-отгадке ударный слог — тре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755640" y="620640"/>
            <a:ext cx="7705800" cy="4535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алай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4"/>
          <p:cNvSpPr/>
          <p:nvPr/>
        </p:nvSpPr>
        <p:spPr>
          <a:xfrm>
            <a:off x="785880" y="500040"/>
            <a:ext cx="77151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опрос                                 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5">
            <a:hlinkClick r:id="rId1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10800"/>
                </a:moveTo>
                <a:lnTo>
                  <a:pt x="19600" y="3794"/>
                </a:lnTo>
                <a:lnTo>
                  <a:pt x="19600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857160" y="1945440"/>
            <a:ext cx="7358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ист или ВАЛЬС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нцевала девочка Пеппи Длинный чулок с ворами, забравшимися к ней в  дом,  чтобы  украсть  чемодан с золотыми монет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звании танца есть буква, которая не обозначает звука, а лишь указывает на мягкость согласного, стоящег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4"/>
          <p:cNvSpPr/>
          <p:nvPr/>
        </p:nvSpPr>
        <p:spPr>
          <a:xfrm>
            <a:off x="684360" y="765000"/>
            <a:ext cx="7705440" cy="4535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ь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4"/>
          <p:cNvSpPr/>
          <p:nvPr/>
        </p:nvSpPr>
        <p:spPr>
          <a:xfrm>
            <a:off x="714240" y="428760"/>
            <a:ext cx="77868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опрос                                  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>
            <a:hlinkClick r:id="rId1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10800"/>
                </a:moveTo>
                <a:lnTo>
                  <a:pt x="19600" y="3794"/>
                </a:lnTo>
                <a:lnTo>
                  <a:pt x="19600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642960" y="1948320"/>
            <a:ext cx="7715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ЛЬКА или ПОНЧИ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зовут коротышек из сказки о приключениях Незнайки. Кто из них в больнице требовал, чтобы ему варили на обед  суп  из конфет и кашу из мармела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мени коротышки звуков меньше, чем бук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826920" y="765000"/>
            <a:ext cx="7705800" cy="4969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ль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2:43:18Z</dcterms:created>
  <dc:creator>Admin</dc:creator>
  <dc:description/>
  <dc:language>en-US</dc:language>
  <cp:lastModifiedBy>Елизавета</cp:lastModifiedBy>
  <dcterms:modified xsi:type="dcterms:W3CDTF">2012-01-30T14:24:11Z</dcterms:modified>
  <cp:revision>32</cp:revision>
  <dc:subject/>
  <dc:title>Слайд 1</dc:title>
</cp:coreProperties>
</file>